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09B-2AF8-4337-AB75-2BBD9FF2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E74-D917-4E49-B3EC-CE6BE59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C54-F61D-468B-9040-3B6EE9D5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BFC-CF7F-469A-BA26-D8CC8E2D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718-C897-4662-9C2F-56835B1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8F5-6A99-480A-9C81-30B12FEF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F51-94B0-49DE-9B7D-56E83A70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AFA-0805-4B63-AF4B-0941E230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6CD-2916-4AE5-AB79-E188EB9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5D0-DFBF-46B5-A1BC-C2C945A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6C3-A66C-4085-B33B-C1A8745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6EE-2CFC-4D37-9F83-4A93F12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FEEB-06CA-4432-8081-A52BC7DB32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vyšování kvality sociálních služeb ve Středočeském kraji</a:t>
            </a:r>
            <a:br>
              <a:rPr sz="2000"/>
            </a:br>
            <a:br>
              <a:rPr sz="3200"/>
            </a:br>
            <a:r>
              <a:rPr b="0" lang="cs-CZ" sz="1400" spc="-1" strike="noStrike">
                <a:solidFill>
                  <a:srgbClr val="14407e"/>
                </a:solidFill>
                <a:latin typeface="Arial"/>
              </a:rPr>
              <a:t>Operační program Lidské zdroje a zaměstnanost</a:t>
            </a:r>
            <a:br>
              <a:rPr sz="3200"/>
            </a:br>
            <a:br>
              <a:rPr sz="3200"/>
            </a:b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Další vzdělávání pracovníků managementu a přímé péče z pohledu poskytovatele sociálních služeb</a:t>
            </a:r>
            <a:br>
              <a:rPr sz="2800"/>
            </a:br>
            <a:br>
              <a:rPr sz="2800"/>
            </a:br>
            <a:r>
              <a:rPr b="0" lang="cs-CZ" sz="1600" spc="-1" strike="noStrike">
                <a:solidFill>
                  <a:srgbClr val="14407e"/>
                </a:solidFill>
                <a:latin typeface="Arial"/>
              </a:rPr>
              <a:t>PhDr.Miluše Jůnová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2400"/>
            </a:br>
            <a:r>
              <a:rPr b="0" lang="cs-CZ" sz="1600" spc="-1" strike="noStrike">
                <a:solidFill>
                  <a:srgbClr val="14407e"/>
                </a:solidFill>
                <a:latin typeface="Arial"/>
              </a:rPr>
              <a:t>Závěrečná konference 26.6.2013 </a:t>
            </a:r>
            <a:br>
              <a:rPr sz="32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hodnocení projektu poskytovateli (příspěvkové organizace) sociálních služeb  a jejich výst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5)   Špatná organizace některých kur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  Časté opakování stejných témat – obecných i odbor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Často „suchá teorie“ bez uvádění příkladu z pr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Absence pracovníků v provozu ( problém se zajištěním služeb, dojíždění na druhý konec 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ěkterá témata byla přínosem před 5 lety, nyní nejsou akt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Čtení meto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Školení mimo vlastní organ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Management v domovech pro seniory</a:t>
            </a:r>
            <a:br>
              <a:rPr sz="3200"/>
            </a:b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Klíčová aktivita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5616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4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seniory ve Středočeském kraji – dodavatel SVS consult, s.r.o.,Ohr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: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 některý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enění připravených lektorů s přínosnými, interaktivními přednáškami -  Mgr. Homolková, Mgr. Palánová, Mgr. Mazalová, Mgr. Konečná, Ing. Červe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okojenost s téma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vážně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 z proběhlých kurzů a seminář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Vysoká úroveň, profesionální přístup některých l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ové poznatky pro pr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Předávání „dobré prax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ěkteré přednášky „výborné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Zajímavá formy přednášek některých l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37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4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seniory ve Středočeském kraji – dodavatel SVS consult, s.r.o.,Ohr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Vzájemná výměna rad a zkušeností, osobní poznání, navázání přátelských vztah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Zajímavé podněty a teoretické poznatky utříděné do systematického cel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8) Setkání s kolegy, předání zkušeností, které není jindy čas nebo příležitost je konzult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9) Místa konání kurzů a seminářů –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0) Přednáška byly přínosné, nejméně 30% ale spočívalo v citacích zák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1) Užitečné informace z právní pr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4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seniory ve Středočeském kraji – dodavatel SVS consult, s.r.o.,Ohr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o nám vadi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ipravenost některých lektorů, nezáživný vý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adekvátní náhrada zastupujícího lektora (při onemocnění lek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é informace z podnikatelské sféry, hodně t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ící pro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ění „rozpisu témat“ a „studijních materiálů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teré přednášky monotónní, obecné, nekonkrétní jejichž okruh nespadal do problematiky sociálních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pravenost lektora pro jinou cílovou skup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akující se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ytečná přednáška problematiky „individuálního plánování“ pro ředitele soc.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4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seniory ve Středočeském kraji – dodavatel SVS consult, s.r.o.,Ohr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) Suché odprezentování lek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) Forma vysokoškolské přednášky není vyhovujíc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2) Nevyhovující délka kurzu k danému té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) Zajímavé přednášky s výjimkou posledního lektora, který přednášku přečetl z papí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4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seniory ve Středočeském kraji – dodavatel SVS consult, s.r.o.,Ohro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o nám scháze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ost řešení praktických otázek a problémů v soc. služb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etence lektorů určitých předn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níci v oblasti sociální problema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příkladů z pr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ření na ekonomii, provozní a manažerské problémy, řízení organ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rétní a včasný plán realizátora kurzů a seminářů – co, kdo, kdy a kde ško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ovlivnění výběru té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 modelových ukázek, méně t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ředitele „zbytečné – Úvody do problematiky…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) Absence kurzů a seminářů pro pracovníky odborného sociálního poradenství, manželské a rodinné poradny, problematika párové terapie, rodinné terapie, medi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00000"/>
                </a:solidFill>
                <a:latin typeface="Arial"/>
              </a:rPr>
              <a:t>Pracovník přímé péče v domovech pro seniory</a:t>
            </a:r>
            <a:br>
              <a:rPr sz="3600"/>
            </a:b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Klíčová aktivita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5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ky přímé pé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bytových sociálních služeb pro seni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.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evážně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tém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evážně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enění připravených lektorů s přínosnými, interaktivními přednáškami: Mgr. Chaloupková a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 z proběhlých kurzů a seminář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Schopnost lektorů naslouchat, zaujm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Velmi dobré praktické ukázky postupů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Přehledný výklad a užitečné informace pro praxi kurzu – „Užitečná témata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Kvalitní výuka v oblasti problematiky „klíčových pracovní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5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ky přímé pé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bytových sociálních služeb pro seni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5) Bezproblémová spolupráce s realizátorem kurzů v organ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Úspora financí organizace v níž se kurzy kon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Kurzy a semináře srozumitelné a pou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8) Příklady z praxe lektorů a koleg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oudrý je, kdo se u každého něčemu přiučí.“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Talmu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milus\Desktop\IMG_0149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5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ky přímé pé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bytových sociálních služeb pro seni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vad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ktor nezmapoval „cílovou skupinu“ škole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statečné informace o termínech ško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plnění počáteční „dohody“ o možnosti konání školení v místě organizace při přihlášení více jak 11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vyhovující lektor pro výuku v oblasti „průvodců kvality“ v soc. služb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lutní absence praktických zkušeností lektorky kurzu (školila v oblasti problematiky osob s mentálním postižení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)    Opakující se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)    Nejednotný výklad l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)   Výklad pro jinou cílovou skupinu posluch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)    Atmosféra jako ve škole (u některých ško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)  Jednání jako s dětmi – vyvolávání, opak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5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ky přímé pé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bytových sociálních služeb pro seni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scház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ost, zaměření na praktické a tíživé otázky současnosti  soc.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rétní informace k tvorbě metodických pravidel ke Standardu č. 5 (bylo přislíbeno lektor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y zaměřené kur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čtí odborníci v sociální obl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nácviky „problematických situací“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bylo konkretizová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ukázky aktivizace uživa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řešení „agresivity a sexuality“ uživatelů soc.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ení teorie s prax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Pracovníci obcí a kraje, pečovatelské služby</a:t>
            </a:r>
            <a:br>
              <a:rPr sz="2800"/>
            </a:b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Klíčová aktivita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5111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6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pečovatelské služby a sociální pracovníky obcí a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zníků bylo rozesláno: 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atnost : 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 z proběhlých kurzů a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Zaměření kurzů na aktuální  problematiku (IP, řešení konfliktů, komunikaci s klienty soc. služ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Upevnění jistoty a profesionálního sebevědom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6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pečovatelské služby a sociální pracovníky obcí a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3) Přínos pro práci s klienty v teré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4) Bezplatnost kur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5) Téma vedoucí k rozvoji zaměstnanců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Možnost výběru té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Možnost ověření si správných pracovních postupů v sociální prá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8) Nové náhledy, získání poznatků, uvědomění si probl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9) Opakování znalostí a doved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0) Setkání s pracovníky jiných organizací a výměna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1) Seminář v domo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2) Blízkost konání kur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13) Získání informací v oblasti řízení pracovníků soc.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6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pečovatelské služby a sociální pracovníky obcí a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b6bcf"/>
                </a:solidFill>
                <a:latin typeface="Arial"/>
              </a:rPr>
              <a:t>14) Příjemné vystupování lektorů, výborné vyjadřovac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b6bcf"/>
                </a:solidFill>
                <a:latin typeface="Arial"/>
              </a:rPr>
              <a:t>15) Vysoká profesionální úroveň le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b6bcf"/>
                </a:solidFill>
                <a:latin typeface="Arial"/>
              </a:rPr>
              <a:t>16) Schopnost lektorů zapojení účastníků do výu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b6bcf"/>
                </a:solidFill>
                <a:latin typeface="Arial"/>
              </a:rPr>
              <a:t>17) Bezvadné zázemí pro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b6bcf"/>
                </a:solidFill>
                <a:latin typeface="Arial"/>
              </a:rPr>
              <a:t>18) Vysoce hodnocené kurzy a semináře, vyčerpávající nabídka školících 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6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pečovatelské služby a sociální pracovníky obcí a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vad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ta nebyla zaměřena pro „pracovníky obecních úř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jediněle – předčítání z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chybě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: Ochrana práv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kace s organizátory kur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akované urgence pro získání „Osvědč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ta spojená se současnými změnami zákonů OSPOD (sociálně právní ochrana dětí) – problematika pěstounské péče, opatrovnictví, zmocnění k zastupování, témata k novele zákona č. 359/ 1999 Sb. o soc.práv.ochraně dě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pro aktuální řešení určitých praktických otázek a problémů v soc.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anagement v domovech pro osoby se zdravotním postižením</a:t>
            </a:r>
            <a:br>
              <a:rPr sz="2800"/>
            </a:b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líčová aktivita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6087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7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čanské sdružení Za důstojné stáří, Prah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evážně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tém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evážně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enění připravených, interaktivních lektorů: Mgr.Maštalíř, Mgr.Koldinská, Mgr. Olejníčková,Mgr.Ves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i z proběhlých kurzů a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Získání nových poznatků a vědomostí v pozici vedoucího 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Pěkný přístup a způsob výuky s praktickými ukázkami a nácv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Souvislé propojení teorie s prax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Výměna poznatků a zkušeností mezi pracov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ěkterá témat a jejich obsah nebyla vhodná pro cílovou skupinu poslucha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7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čanské sdružení Za důstojné stáří, Prah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Ocenění některých lektorů – schopnost  předávání vlastních zkušeností, interakce, plnohodnotné využití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Ocenění pro „Vzdělávací program- Výcvik v komunikaci s klientem pomocí videozáznam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8) Poznání nových koleg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9) Ocenění – střídání různých aktivit během kurzu – od poslechu, diskuzi, hry, nácviky, tréninky a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 nám vad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ě teorie, často nevhodná té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teorie na místo řešení konkrétních probl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íraná témata byla známá (opakování matka moudr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vhodně zvolená témata, s minimem pro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ování si lektorem přednášené skutečnosti u posluchačů (je to tak, že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ah prez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tazník  počet rozeslaných dotazníků, návra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ové pozitivní ohlasy na proběhlé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kové negativní ohlasy na proběhlé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4 – management – efektivní řízení v pobytových soc. službách pro seni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5 – vzdělávání PPP v pobytových soc. službách pro seni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6 – vzdělávání pracovníků pečovatelské služby a sociálních pracovníků obcí a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7 – management – efektivní řízení v pobytových soc. službách pro osoby se zdravotním postiž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8 – vzdělávání PPP v pobytových soc. službách pro osoby se zdravotním postiž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aktivita 9 – management dobrovolnictví v příspěvkových organizacích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7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čanské sdružení Za důstojné stáří, Prah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) Obsah témat byl vhodný spíš pro PPP než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) Rozvržení dnů školení pro management měl být lépe naplánov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) Učební materiály byly určeny pro výuku zaměřenou na seniory, ne osoby se zdravotním postižením – nekorespondovaly s přednáš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) Občas umělé natahování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 scház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některá témata více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 na zaměřená na oblast -  řízení a provozu, finančního managementu, marketink, manažerské dovednosti, práci s podřízeným, pracovně právní vztahy, ekonomii, hospodaření, BOZP, vedení tý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studijní materiály nebyly kvalitní provedením ani obsa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7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čanské sdružení Za důstojné stáří, Prah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 Řešení konkrétních situací se kterými šli  posluchači do disku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) U některých lektorů absence praktických zkušeností se sociálními službami a přímou prací s klien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) Nové trendy v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) Aktuální pohled na sociální témat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00000"/>
                </a:solidFill>
                <a:latin typeface="Arial"/>
              </a:rPr>
              <a:t>Pracovník přímé péče v domovech se zdravotním postižením</a:t>
            </a:r>
            <a:br>
              <a:rPr sz="2600"/>
            </a:br>
            <a:r>
              <a:rPr b="0" lang="cs-CZ" sz="2600" spc="-1" strike="noStrike">
                <a:solidFill>
                  <a:srgbClr val="c00000"/>
                </a:solidFill>
                <a:latin typeface="Arial"/>
              </a:rPr>
              <a:t>Klíčová aktivita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68360" y="1614600"/>
            <a:ext cx="55436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8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v přímé péči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evážně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tém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enění připravených, interaktivních lektorů: Mgr. Hrdná, Mgr. Sysl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i z proběhlých kurzů a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Supervize se školiteli byly na velmi dobré úro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Výrazná spokojenost s kurzem: „Užitečná témata“ – forma diskuze, získání nových informací pro dobrou pr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Spokojenost s kurzem: KP specialista – zápis procesu IP, adekvátní výběr témat pro 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Ocenění interaktivní výuky profesionálních l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8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v přímé péči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5) Vzájemná výměna informací a zkušeností mezi pracov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Navázání bližších vztahů s kol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Ocenění : </a:t>
            </a:r>
            <a:r>
              <a:rPr b="0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získání cenných učebních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 vad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) Nedostatečná koordinace kurzů ze strany doda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) Časová náro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) Neodpovídající téma cílové skupině poslucha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 V kurzu – „Průvodci…“ zjišťování : „Jak to vlastně u vás chodí…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) Opakování témat, obecné poznatky, shodná témata u kurzu – průvodci a specialista v 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) Nevhodnost kurzu „Průvodci kvalitou sociálních služeb“ pro cílovou skupinu pr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8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ělávací aktivity zaměřené na pracovníky v přímé péči pobytových sociálních služeb pro osoby se zdravotním postiž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fz o.p.s., C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scház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ktické nácviky – ve vedení rozhovoru, modelové situace při práci s uživatelem v rámci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workshopových 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témat na děti a mládež do 26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vičování metod a technik při práci s uživat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Management dobrovolnictví</a:t>
            </a:r>
            <a:br>
              <a:rPr sz="3200"/>
            </a:b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Klíčová aktivit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84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9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nagement dobrovolnictví v příspěvkových organizacích Středočeského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lekt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okojenost s téma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 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cenění připravených, interaktivních supervizorů: Mgr. Bic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Studijní zkušenosti z proběhlých kurzů a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Získání nových poznatků a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Příjemní lektoři, kteří dokázali zaujmout, udržet poz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Dobře vedený ku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Řada nových podnětů pro dobrou pr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Pozitivní rozmanitost témat, připravenost lektorů, dobré rozvržení času, a témat během celého kur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9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nagement dobrovolnictví v příspěvkových organizacích Středočeského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6) Se získanými informace se dalo v praxi dále 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7) </a:t>
            </a:r>
            <a:r>
              <a:rPr b="0" lang="cs-CZ" sz="2000" spc="-1" strike="noStrike" u="sng">
                <a:solidFill>
                  <a:srgbClr val="6b6bcf"/>
                </a:solidFill>
                <a:uFillTx/>
                <a:latin typeface="Arial"/>
              </a:rPr>
              <a:t>Oceně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a základě informací se dalo v praxi „dále pracovat“, v krátké době byl realizován vlastní dobrovolnický projekt „Bavíme s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Byla vytvořena pozice koordinátora a uvedení dobrovolnictví do pr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Výborná školení, pracovníci se na kurzy „moc těšil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Díky kurzu lze využít potenciál dobrovolnictví – aktualizace interních materiálů, nově zřízená pozice koordin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Konzultace a supervize v místě za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líčová aktivita 9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nagement dobrovolnictví v příspěvkových organizacích Středočeského kraj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SK Nymbu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vad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mnoho obecných informací o dobrovol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čátek kurzů byl zdlouhavý, rozvláč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ze první, zahajovací seminář byl zaměřen na dobrovol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z účastníka kurzu: „Byl kurz konzultován s odborníky z Dobrovolnického centra Hestia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patně odprezentované  té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o nám scház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ktické dovednosti pro práci s dobrovol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přednáškách v Praze – lepší občerstvení  3) Občerst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) Praktická podpora, chyběly i hlubší teoretické podklady pro rozvoj dobrovolnictví, více informací o dobrovolnictví v organiza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00000"/>
                </a:solidFill>
                <a:latin typeface="Arial"/>
              </a:rPr>
              <a:t>Výsledky zjišťování spokojenosti poskytovatelů sociálních služeb (zřizovatel Středočeský kraj) s proběhlým vzdělává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em rozeslán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74 dotazníků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5 dotazní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ům sociálních služeb, jejichž zřizovatelem je Středočeský kraj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 dotazní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ům soc. služeb – neziskové a obec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 dotazníků: celkem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Témata doporučovaná účastníky kurzů a semin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vést skupinu, abychom mohli „dobrou praxi“ implementovat do chodu organizac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bezkušenostní výcvik  (nebylo specifiková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a provoz pobytových sociální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market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 stravování uživatelů sociální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ální pohled na sociální prob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a zdravotní pé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různých pracovních situací s doplněním legislat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Témata doporučovaná účastníky kurzů a semin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)   Zákoník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) Pracovně právní vztahy na pracoviš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) Terapeutické techniky (muzikoterapie, arteterapie, psychodrama a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ematika agresivního jednání uživatelů sociálních služeb (nespecifiková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ematika sexuality uživatelů sociálních služeb (nespecifiková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608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tazník pro poskytovatele sociálních služeb – účastníky školících akcí (příspěvkové organizace, neziskové organizace, 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Téma dotaz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okojenost s lektory – ano, převážně ano, ne, s některý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)  Studijní zkušenost z kurzů a seminář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)  Co vám vadilo na kurzech a seminář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4)  Co vám scházelo na kurzech a seminář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hodnocení projektu poskytovateli (příspěvkové organizace) sociálních služeb  a jejich výstup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Celkový výstup – pozitivní oh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Nové informace, jiné pohledy na určitou problemat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Možnost volby tématu kur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Získání nových zkušeností v oblasti soc.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Získání nových metod a technik pro práci s uživat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Uvádění příkladů „dobré prax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Nabídka „modelových situací“ práce s uživat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Získání „zpětné vazby“ o aplikaci pracovních postupů v praxi (od lektorů, koleg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Praktické připomínky lektorů v průběhu přednášek k určitým pracovním postup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hodnocení projektu poskytovateli (příspěvkové organizace) sociálních služeb  a jejich výstup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9) Praktické procvičování metod a technik práce s uživatelem pod vedením l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0) Platí: „Opakování, matka moudrost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1) Tištěné prezentace jako „pracovní lis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2) Předávání a výměna zkušeností mezi kolegy z jiných za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3) Setkávání pracovníků na shodné pracovní pozici, možnost porovnání organizační struktury a kompetencí v prof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4) Setkávání s ostatními kolegy a řešení praktických otázek provozu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5) Seznámení se s novými kolegy – jiných organiz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hodnocení projektu poskytovateli (příspěvkové organizace) sociálních služeb  a jejich výst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6) Všeobecná spokojenost pracovníků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7) Velký přínos vzdělávání pro nové zaměst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8) Skutečnost, že určitou problematiku slyší zaměstnanci od „nezávislých odborníků“ – l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19) Ochota lektorů přizpůsobit se dílčím požadavkům poslucha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20) Úspora nákladů organizace n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21) Proškolení velkého množstv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Arial"/>
              </a:rPr>
              <a:t>22) Splnění povinnosti vzdělávání (zákon o soc. služb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hodnocení projektu poskytovateli (příspěvkové organizace) sociálních služeb  a jejich výst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6b6bcf"/>
                </a:solidFill>
                <a:uFillTx/>
                <a:latin typeface="Arial"/>
              </a:rPr>
              <a:t>Celkový výstup – negativní ohlas</a:t>
            </a:r>
            <a:r>
              <a:rPr b="0" lang="cs-CZ" sz="2400" spc="-1" strike="noStrike" u="sng">
                <a:solidFill>
                  <a:srgbClr val="6b6bc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ejčastěji - časová dotace (pracovníci chyběli v provozu, problém při zajištění služeb při stanoveném počtu účastníků, dojíždění pracovníků -  raději Praha než vzdálené za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Lektor četl přednášku z prez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eúčelné přednášky ředitelům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6b6bc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b6bcf"/>
                </a:solidFill>
                <a:latin typeface="Arial"/>
              </a:rPr>
              <a:t>Neschopnost rozlišit a monitorovat vzdělání účastníků kurzu – cílové skupiny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reditel</cp:lastModifiedBy>
  <cp:lastPrinted>2013-06-24T05:50:28Z</cp:lastPrinted>
  <dcterms:modified xsi:type="dcterms:W3CDTF">2013-06-25T05:48:34Z</dcterms:modified>
  <cp:revision>91</cp:revision>
  <dc:subject/>
  <dc:title>Snímek 1</dc:title>
</cp:coreProperties>
</file>